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17.jpeg" ContentType="image/jpeg"/>
  <Override PartName="/ppt/media/image3.png" ContentType="image/png"/>
  <Override PartName="/ppt/media/image26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camera.wav" ContentType="audio/x-wav"/>
  <Override PartName="/ppt/media/image7.png" ContentType="image/png"/>
  <Override PartName="/ppt/media/image16.jpeg" ContentType="image/jpeg"/>
  <Override PartName="/ppt/media/image21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28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2.png" ContentType="image/png"/>
  <Override PartName="/ppt/media/image2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850-7C84-49A3-A3A3-106F9673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4D9-E86A-48D2-A0B9-2E95514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F0C-626D-4AA6-84B6-109943EC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DC3-CF2E-49F8-982C-AE77BE5B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8B5C-54B2-4CE8-B590-DEAEA3DB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57AF-64D9-4020-A9B3-87BFDACA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236D-D797-489B-A226-E166E7AC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1133-B001-4CD2-8453-97B4C2A4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962D-F655-4DEA-B116-A0E3F9D1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A3E8-CF86-4348-9C0A-5E775A1A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A33C-7DD0-4EA6-A9C1-F0925249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7D4-269D-4DF7-95A3-CD24781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879A-6503-4F04-AE7B-8D621974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6204-C125-40D9-A99D-448865A3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9140-8276-4549-B7E7-E79C2F73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A95F-75AB-41AE-A2D6-B1735118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73AC-3E1F-42EC-BE43-DD34ED2D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9740-CDA4-4D78-B921-F3E24DC3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B897-E9C2-4BBB-A9D4-F6BA8060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5C0B-CB40-432F-B3A0-8DB63E37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86AE-E79A-4F6D-B446-C1865259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1057-A2A7-4B70-BFAD-D2FC2807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84A-4C30-4A77-B31D-1E3BBC8A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38DF-DB41-41AF-9DBE-CD1C32D6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3E5C-3293-40F4-9B44-FA6B0C5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E590-D0D1-4EB7-9DEC-DEA2056D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7771-3E13-4A6C-83C2-FC03CCD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E4BA-0FD7-48E0-BADA-8815863E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76618-5272-41C4-A8E7-BCB09867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0B78E-F1B5-488B-B3AF-5A528A8B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37342-31D4-4FC7-BB20-C642F9C1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E73E3-86A9-4750-B5A2-3CD05A20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10FC-6B70-47CC-964C-5BC9D235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7F4-BB13-41AB-BDFE-983D6C90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5260-4F0E-4B2A-B53E-D15090FA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AB85-9B3B-4EE3-B19D-8C066130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B0CF-FE48-4F8B-A18F-0D2901EE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7EFFC-8B53-4609-8EC7-DB0B46A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99F35-6692-4B4D-82B8-CE25502E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905A2-FBE3-49A2-A800-9F1E02F2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CF7D-2A88-4017-84EE-0ADED371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7A03B-5333-415A-ACDD-E8152F5C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685D4-7608-4E78-8CB6-8171D57B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88BE0-BD7C-43F4-A8F1-66BC92F7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C57-C0A4-41AE-9DAF-5DD38F52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DCC06-05E7-4414-915C-08FA3E71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F6C47-0EA1-4E25-93B6-2F454B0A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3507-A702-4F06-8897-6A16293D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18BD-E560-4152-A22A-7A10F976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C1CB-68B3-46A4-9D17-304EE3D3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FC50-59A6-49E1-80F2-D2D7BC91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5C992-E700-4107-B54C-DE4AE5D5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C1659-D669-44AF-A986-34791C8B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59255-582B-4D13-BE94-0D73A75F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04F4E-4DC7-4B21-B26D-67233972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EB3-DD6E-4350-A1AE-C41A2812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62C0-84F5-4884-8831-139A5ABE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953-03F4-4649-916D-16E749A0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69F-5AF2-49D6-A4C6-BAC286BE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553-AF99-46F4-AFEC-9544AF32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F884-3D0E-474B-A72E-7E4BA2085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49FF-0B0A-4A52-84DA-DEE30D2956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212760" y="666720"/>
            <a:ext cx="8672040" cy="6191280"/>
            <a:chOff x="-212760" y="666720"/>
            <a:chExt cx="8672040" cy="6191280"/>
          </a:xfrm>
        </p:grpSpPr>
        <p:sp>
          <p:nvSpPr>
            <p:cNvPr id="82" name=""/>
            <p:cNvSpPr/>
            <p:nvPr/>
          </p:nvSpPr>
          <p:spPr>
            <a:xfrm>
              <a:off x="699840" y="666720"/>
              <a:ext cx="77594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243360" y="3733920"/>
              <a:ext cx="124668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-212760" y="4916520"/>
              <a:ext cx="37756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348A-185F-44AE-9A8F-55D8CF468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2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BDFC-83B9-4072-A652-E551F60FF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E992-677B-4D82-A230-C476E7A5BA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33480" y="-1440"/>
            <a:ext cx="9145800" cy="6860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47640" y="1628640"/>
            <a:ext cx="6337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爱   莲   说</a:t>
            </a:r>
            <a:br>
              <a:rPr sz="7200"/>
            </a:b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周敦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4653000"/>
            <a:ext cx="539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岭县第六中学  宋丽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258920" y="907920"/>
            <a:ext cx="6719400" cy="4825800"/>
            <a:chOff x="1258920" y="907920"/>
            <a:chExt cx="6719400" cy="4825800"/>
          </a:xfrm>
        </p:grpSpPr>
        <p:sp>
          <p:nvSpPr>
            <p:cNvPr id="233" name=""/>
            <p:cNvSpPr/>
            <p:nvPr/>
          </p:nvSpPr>
          <p:spPr>
            <a:xfrm>
              <a:off x="3358800" y="907920"/>
              <a:ext cx="4619520" cy="48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作者简介</a:t>
              </a:r>
              <a:r>
                <a:rPr b="1" lang="zh-CN" sz="28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      </a:t>
              </a:r>
              <a:r>
                <a:rPr b="1" lang="zh-CN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周敦颐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：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宋代道洲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(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现在湖南省道县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)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人，字茂叔，哲学家，因他世居道县濂溪，后居庐山莲花峰前，峰下有溪，也命名为濂溪，学者就称他为濂溪先生</a:t>
              </a:r>
              <a:r>
                <a:rPr b="0" lang="zh-CN" sz="32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1258920" y="1056600"/>
              <a:ext cx="2568240" cy="4456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⒈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有感情的朗读、背诵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并把握词、语句，疏通文意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⒉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学习本文托物言志和衬托的手法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体会语言特色及多种表达方式的综合运用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学习莲花高洁的品质，培养“出淤泥而不染”的良好的道德品质。 领悟文中君子的高洁品质，并把其化为自己对崇高道德的追求。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文学常识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文体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说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一种文学体裁，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议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文的一种文体，可以直接说明事物或论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述道理，也可以借人借事或借物和记载来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述道理。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就是说说爱好莲花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的问题。本文是一篇借物咏志讽世的散文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419560" y="1523880"/>
            <a:ext cx="430452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陆草木之花，可爱者甚蕃。晋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爱菊。自李唐来，世人甚爱牡丹。予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莲之出淤泥而不染，濯清涟而不妖，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外直，不蔓不枝，香远益清，亭亭净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远观而不可亵玩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予谓菊，花之隐逸者也；牡丹，花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富贵者也；莲，花之君子者也。噫！菊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，陶后鲜有闻。莲之爱，同予者何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牡丹之爱，宜乎众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762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06440" y="706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544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8406"/>
                </a:moveTo>
                <a:lnTo>
                  <a:pt x="9559" y="8406"/>
                </a:lnTo>
                <a:lnTo>
                  <a:pt x="13980" y="3794"/>
                </a:lnTo>
                <a:lnTo>
                  <a:pt x="13980" y="17806"/>
                </a:lnTo>
                <a:lnTo>
                  <a:pt x="9559" y="13194"/>
                </a:lnTo>
                <a:lnTo>
                  <a:pt x="5128" y="13194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19141" y="10800"/>
                </a:lnTo>
              </a:path>
              <a:path fill="darken" w="24270" h="21600">
                <a:moveTo>
                  <a:pt x="15634" y="8406"/>
                </a:moveTo>
                <a:lnTo>
                  <a:pt x="19141" y="5639"/>
                </a:lnTo>
              </a:path>
              <a:path fill="darken" w="24270" h="21600">
                <a:moveTo>
                  <a:pt x="15634" y="13194"/>
                </a:moveTo>
                <a:lnTo>
                  <a:pt x="19141" y="1596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0666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文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990720"/>
            <a:ext cx="4800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爱莲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周敦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水陆草木之花，可爱者甚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蕃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晋陶渊明独爱菊；自李唐来，世人甚爱牡丹；予独爱莲之出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淤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泥而不染，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濯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清涟而不妖，中通外直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不蔓不枝，香远益清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亭亭净植，可远观而不可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亵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玩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予谓菊，花之隐逸者也；牡丹，花之富贵者也；莲，花之君子者也。噫！菊之爱，陶后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鲜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闻；莲之爱，同予者何人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?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牡丹之爱，宜乎众矣</a:t>
            </a:r>
            <a:r>
              <a:rPr b="0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9907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án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971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洗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133992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颐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295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5640" y="184320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08720" y="29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297180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ó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8720" y="3643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0360" y="3718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77080" y="3657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近而不庄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4867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4876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53080" y="487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9240" y="2419200"/>
            <a:ext cx="667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8720" y="90792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一 、生词学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 rot="20896800">
            <a:off x="250560" y="5719320"/>
            <a:ext cx="504720" cy="1138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6165720"/>
            <a:ext cx="503280" cy="471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77760"/>
            <a:ext cx="9182160" cy="92678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 Black"/>
              </a:rPr>
              <a:t>讨论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带着下列问题品读课文：（全班朗读）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爱莲，莲花的可爱之处表现在哪里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深情地为莲花高唱赞歌，文章是不是仅仅写莲花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本文主体是写莲，为什么要写菊和牡丹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为什么作者在第一段连用两个“独”字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课文前面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”的顺序写，为什么文末却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”的顺序呢？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请同学们找出直接描写莲花的句子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予独爱莲之出淤泥而不染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濯清涟而不妖，中通外直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不蔓不枝，香远益清亭亭净植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可远观而不可亵玩焉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7880" y="2209680"/>
            <a:ext cx="152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隶书"/>
                <a:ea typeface="隶书"/>
              </a:rPr>
              <a:t>莲花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762120"/>
            <a:ext cx="76320" cy="4419360"/>
          </a:xfrm>
          <a:custGeom>
            <a:avLst/>
            <a:gdLst>
              <a:gd name="textAreaLeft" fmla="*/ 48960 w 76320"/>
              <a:gd name="textAreaRight" fmla="*/ 76320 w 7632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57200"/>
            <a:ext cx="2622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长环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不染不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1523880"/>
            <a:ext cx="2667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体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中通外直                            不蔓不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3048120"/>
            <a:ext cx="3048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香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香远益清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4038480"/>
            <a:ext cx="27432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气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亭亭   可远观不可亵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838080"/>
            <a:ext cx="75960" cy="4114800"/>
          </a:xfrm>
          <a:custGeom>
            <a:avLst/>
            <a:gdLst>
              <a:gd name="textAreaLeft" fmla="*/ 0 w 75960"/>
              <a:gd name="textAreaRight" fmla="*/ 27360 w 759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75"/>
                </a:lnTo>
                <a:cubicBezTo>
                  <a:pt x="10800" y="9975"/>
                  <a:pt x="16200" y="10875"/>
                  <a:pt x="21600" y="10875"/>
                </a:cubicBezTo>
                <a:cubicBezTo>
                  <a:pt x="16200" y="10875"/>
                  <a:pt x="10800" y="11775"/>
                  <a:pt x="10800" y="126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10000" y="2209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君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819360" y="594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托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674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言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90720" y="4953240"/>
            <a:ext cx="7009560" cy="990360"/>
            <a:chOff x="990720" y="4953240"/>
            <a:chExt cx="7009560" cy="990360"/>
          </a:xfrm>
        </p:grpSpPr>
        <p:sp>
          <p:nvSpPr>
            <p:cNvPr id="280" name=""/>
            <p:cNvSpPr/>
            <p:nvPr/>
          </p:nvSpPr>
          <p:spPr>
            <a:xfrm flipV="1">
              <a:off x="990720" y="5133240"/>
              <a:ext cx="0" cy="81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943600"/>
              <a:ext cx="7009560" cy="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000280" y="4953240"/>
              <a:ext cx="0" cy="99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553080" y="914400"/>
            <a:ext cx="76320" cy="4191120"/>
          </a:xfrm>
          <a:custGeom>
            <a:avLst/>
            <a:gdLst>
              <a:gd name="textAreaLeft" fmla="*/ 48960 w 76320"/>
              <a:gd name="textAreaRight" fmla="*/ 76320 w 7632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01280" y="6858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既不同流合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又不孤芳自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91000" y="16765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正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行为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91000" y="26668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声名远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流芳百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15040" y="3581280"/>
            <a:ext cx="115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志洁行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仪态端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令人敬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不可玷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35040" y="64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分别从哪方面描写莲花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472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484360" y="90792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品读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2833560"/>
            <a:ext cx="567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读了作者描写莲花的这些 句子之后，你觉得作者赞美的仅仅是莲花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是。是为了歌颂具有莲花那样高尚品质的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本文以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爱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为脉络，写出了对莲花的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喜爱，为何还要写菊花和牡丹？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衬托手法。从而更好地达到托物言志（象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征）的目的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020000" y="1773360"/>
            <a:ext cx="1027080" cy="1655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191280" y="981000"/>
            <a:ext cx="295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自李唐来，世人甚爱牡丹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牡丹，花之富贵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4000" y="4005360"/>
            <a:ext cx="158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贪慕富贵追逐名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403280" y="1846440"/>
            <a:ext cx="104616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1337760" y="990720"/>
            <a:ext cx="1217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晋陶渊明独爱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菊，花之隐逸者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2000" y="3943440"/>
            <a:ext cx="15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品格高洁超凡脱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4284720" y="1846440"/>
            <a:ext cx="104148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3708360" y="981000"/>
            <a:ext cx="2448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予独爱莲之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莲，花之君子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7280" y="400536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质朴正直志洁行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627280" y="2637000"/>
            <a:ext cx="1368360" cy="762120"/>
            <a:chOff x="2627280" y="2637000"/>
            <a:chExt cx="1368360" cy="762120"/>
          </a:xfrm>
        </p:grpSpPr>
        <p:sp>
          <p:nvSpPr>
            <p:cNvPr id="306" name=""/>
            <p:cNvSpPr/>
            <p:nvPr/>
          </p:nvSpPr>
          <p:spPr>
            <a:xfrm>
              <a:off x="2627280" y="2637000"/>
              <a:ext cx="13683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71640" y="2924280"/>
              <a:ext cx="1008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正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579640" y="2637000"/>
            <a:ext cx="1297080" cy="762120"/>
            <a:chOff x="5579640" y="2637000"/>
            <a:chExt cx="1297080" cy="762120"/>
          </a:xfrm>
        </p:grpSpPr>
        <p:sp>
          <p:nvSpPr>
            <p:cNvPr id="309" name=""/>
            <p:cNvSpPr/>
            <p:nvPr/>
          </p:nvSpPr>
          <p:spPr>
            <a:xfrm flipH="1">
              <a:off x="5579640" y="2637000"/>
              <a:ext cx="12970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67280" y="2924280"/>
              <a:ext cx="93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反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11280" y="5805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 rot="20949000">
            <a:off x="684000" y="5444640"/>
            <a:ext cx="588960" cy="648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 rot="20706000">
            <a:off x="323640" y="5660640"/>
            <a:ext cx="458640" cy="50472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camera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920600" y="5475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陶渊明为什么独爱菊花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965240"/>
            <a:ext cx="80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因为菊花不畏严寒，傲霜斗雪，品格高洁。菊花又是花中的隐士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不愿与世俗同流合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超凡脱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这符合陶渊明的处世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36840" y="4937040"/>
            <a:ext cx="41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写菊是为了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正面衬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莲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camera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9640" y="549360"/>
            <a:ext cx="801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菊之爱，陶后鲜有闻，莲之爱，同予者何人，牡丹之爱，宜乎众矣”表明了作者怎样的人生态度？                他既不愿像陶渊明那样消极避世，也不愿像世人那样追逐功名富贵，他要在污浊的世间独立不移，永远保持清白操守和正直品德。作者写牡丹实际上是从反面衬托莲的君子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怎么理解“莲之爱，予者何人”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你你读完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之后是否同意作者的观点？他的观点目前有什么现实意义？（谈“人与环境”的关系。也可与现实社会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公民职业道德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联系等等，言之有理即可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写作手法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托物言志（象征手法）作者借物（莲花）来表达自已的志向。我们可以仿照作者用莲花来寄托自己的感情的方法，用“我特喜欢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……”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句式说一段话，所借之物不拘泥于花草树木。但要注意两点：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注意内部联系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有新意。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结束语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通过一节课的学习，相信同学们对本文有了较深的理解，也相信同学们对自己将来成为什么样的人有了新的认识，希望所有的同学都能成为一个品德高尚的人，一个对社会有用的人！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实践语言，习得感受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 Rounded MT Bold"/>
              </a:rPr>
              <a:t>在改革开放的今天，社会上出现了一些不正之风，今天作为中学生的你该怎么对待这些问题呢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-33480" y="-3240"/>
            <a:ext cx="9141120" cy="68612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5640" y="31417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33"/>
                </a:solidFill>
                <a:latin typeface="Arial"/>
                <a:ea typeface="楷体_GB2312"/>
              </a:rPr>
              <a:t>再 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1052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通过本课的学习，希望同学们能够树立正确的人生观、价值观，都能成为品德高尚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-33480" y="-936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956720" y="5877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8406"/>
                </a:moveTo>
                <a:lnTo>
                  <a:pt x="9748" y="8406"/>
                </a:lnTo>
                <a:lnTo>
                  <a:pt x="14169" y="3794"/>
                </a:lnTo>
                <a:lnTo>
                  <a:pt x="14169" y="17806"/>
                </a:lnTo>
                <a:lnTo>
                  <a:pt x="9748" y="13194"/>
                </a:lnTo>
                <a:lnTo>
                  <a:pt x="5318" y="13194"/>
                </a:lnTo>
                <a:close/>
              </a:path>
              <a:path fill="darken" w="24648" h="21600">
                <a:moveTo>
                  <a:pt x="15823" y="10800"/>
                </a:moveTo>
                <a:lnTo>
                  <a:pt x="19331" y="10800"/>
                </a:lnTo>
              </a:path>
              <a:path fill="darken" w="24648" h="21600">
                <a:moveTo>
                  <a:pt x="15823" y="8406"/>
                </a:moveTo>
                <a:lnTo>
                  <a:pt x="19331" y="5639"/>
                </a:lnTo>
              </a:path>
              <a:path fill="darken" w="24648" h="21600">
                <a:moveTo>
                  <a:pt x="15823" y="13194"/>
                </a:moveTo>
                <a:lnTo>
                  <a:pt x="19331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33480" y="-2376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4320" cy="6956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33480" y="-15840"/>
            <a:ext cx="9277560" cy="6973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161640" cy="688500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28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06:50Z</dcterms:created>
  <dc:creator>lo</dc:creator>
  <dc:description/>
  <cp:keywords/>
  <dc:language>en-US</dc:language>
  <cp:lastModifiedBy>姚春风</cp:lastModifiedBy>
  <cp:lastPrinted>1899-12-30T00:00:00Z</cp:lastPrinted>
  <dcterms:modified xsi:type="dcterms:W3CDTF">2009-07-13T11:48:09Z</dcterms:modified>
  <cp:revision>32</cp:revision>
  <dc:subject/>
  <dc:title>爱莲说 </dc:title>
</cp:coreProperties>
</file>